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FB37-2819-4325-B717-727A1E25A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8961-35C1-4B49-9C2C-9675E1B6F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BE09-019B-4DF3-875B-60AFDCB80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437F-29B8-4977-A197-3C9270D5D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7ADE-665E-4147-AD93-9128873CF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5DA2-08DD-4E2A-A98D-47D6F4112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1DE6-2FCD-417C-A67E-60EF3782D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FD0A-A743-4050-A644-9D5B9F19B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411C-B7DA-40DD-B813-8613071DB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41CD-CBDD-469A-8CA0-23678FCE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6436-891F-4297-A1DA-C151BD9A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D8CC-3BA6-4849-A317-87FAFB5F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827FD-662E-4D6C-A727-95F6B8D89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" descr=""/>
            <p:cNvPicPr/>
            <p:nvPr/>
          </p:nvPicPr>
          <p:blipFill>
            <a:blip r:embed="rId3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1440" y="6557040"/>
              <a:ext cx="2627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Pre-Algeb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9512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Variabilit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6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404640" y="137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371600" y="162720"/>
              <a:ext cx="777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Variabilit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52280" y="6553080"/>
              <a:ext cx="202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Pre-Algeb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3629160" y="241236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2" action="ppaction://hlinksldjump"/>
          </p:cNvPr>
          <p:cNvSpPr/>
          <p:nvPr/>
        </p:nvSpPr>
        <p:spPr>
          <a:xfrm>
            <a:off x="3699360" y="3021840"/>
            <a:ext cx="34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3" action="ppaction://hlinksldjump"/>
          </p:cNvPr>
          <p:cNvSpPr/>
          <p:nvPr/>
        </p:nvSpPr>
        <p:spPr>
          <a:xfrm>
            <a:off x="3679920" y="363132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57200" y="182880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range and the first and third quartiles for the data s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360" y="115776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99"/>
                </a:solidFill>
                <a:uFillTx/>
                <a:latin typeface="Arial Black"/>
              </a:rPr>
              <a:t>Try This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: Example 1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7240" y="2951280"/>
            <a:ext cx="70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. 25, 38, 66, 19, 91, 47,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31920" y="3594240"/>
            <a:ext cx="42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3  19  25  38  47  66  9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42000" y="3540240"/>
            <a:ext cx="293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Verdana"/>
              </a:rPr>
              <a:t>Order the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312920" y="4245120"/>
            <a:ext cx="37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ange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91 – 13 = 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285920" y="4960800"/>
            <a:ext cx="384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rst quartile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60360" y="5645160"/>
            <a:ext cx="384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quartile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52440" y="3591000"/>
            <a:ext cx="1737000" cy="457200"/>
          </a:xfrm>
          <a:prstGeom prst="roundRect">
            <a:avLst>
              <a:gd name="adj" fmla="val 50000"/>
            </a:avLst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662280" y="3591000"/>
            <a:ext cx="1736640" cy="457200"/>
          </a:xfrm>
          <a:prstGeom prst="roundRect">
            <a:avLst>
              <a:gd name="adj" fmla="val 50000"/>
            </a:avLst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909800" y="3611520"/>
            <a:ext cx="461880" cy="417600"/>
          </a:xfrm>
          <a:prstGeom prst="roundRect">
            <a:avLst>
              <a:gd name="adj" fmla="val 38403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316400" y="3610080"/>
            <a:ext cx="461880" cy="417240"/>
          </a:xfrm>
          <a:prstGeom prst="roundRect">
            <a:avLst>
              <a:gd name="adj" fmla="val 38403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87240" y="2951280"/>
            <a:ext cx="70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. 45, 31, 59, 49, 49, 69, 33,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31920" y="3594240"/>
            <a:ext cx="42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1 33 45 47 49 49 59 6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742000" y="3540240"/>
            <a:ext cx="293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Verdana"/>
              </a:rPr>
              <a:t>Order the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12920" y="4245120"/>
            <a:ext cx="37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ange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69 – 31 = 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252440" y="3591000"/>
            <a:ext cx="2027160" cy="457200"/>
          </a:xfrm>
          <a:prstGeom prst="roundRect">
            <a:avLst>
              <a:gd name="adj" fmla="val 50000"/>
            </a:avLst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81400" y="3591000"/>
            <a:ext cx="2117520" cy="457200"/>
          </a:xfrm>
          <a:prstGeom prst="roundRect">
            <a:avLst>
              <a:gd name="adj" fmla="val 50000"/>
            </a:avLst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55720" y="3611520"/>
            <a:ext cx="1031760" cy="417600"/>
          </a:xfrm>
          <a:prstGeom prst="roundRect">
            <a:avLst>
              <a:gd name="adj" fmla="val 5000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727440" y="3610080"/>
            <a:ext cx="1031760" cy="417240"/>
          </a:xfrm>
          <a:prstGeom prst="roundRect">
            <a:avLst>
              <a:gd name="adj" fmla="val 5000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182880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range and the first and third quartiles for the data s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360" y="115776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99"/>
                </a:solidFill>
                <a:uFillTx/>
                <a:latin typeface="Arial Black"/>
              </a:rPr>
              <a:t>Try This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: Example 1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327320" y="4710240"/>
            <a:ext cx="5903640" cy="825480"/>
            <a:chOff x="1327320" y="4710240"/>
            <a:chExt cx="5903640" cy="825480"/>
          </a:xfrm>
        </p:grpSpPr>
        <p:sp>
          <p:nvSpPr>
            <p:cNvPr id="157" name=""/>
            <p:cNvSpPr/>
            <p:nvPr/>
          </p:nvSpPr>
          <p:spPr>
            <a:xfrm>
              <a:off x="1327320" y="4884840"/>
              <a:ext cx="590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rst quartile: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          = 3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73280" y="4710240"/>
              <a:ext cx="2102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3 + 4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846600" y="5137200"/>
              <a:ext cx="1233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268280" y="5522760"/>
            <a:ext cx="6048360" cy="825480"/>
            <a:chOff x="1268280" y="5522760"/>
            <a:chExt cx="6048360" cy="825480"/>
          </a:xfrm>
        </p:grpSpPr>
        <p:sp>
          <p:nvSpPr>
            <p:cNvPr id="161" name=""/>
            <p:cNvSpPr/>
            <p:nvPr/>
          </p:nvSpPr>
          <p:spPr>
            <a:xfrm>
              <a:off x="1268280" y="5715000"/>
              <a:ext cx="604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hird quartile: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          = 5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673440" y="5522760"/>
              <a:ext cx="1623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9 + 5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860640" y="5964120"/>
              <a:ext cx="12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507960" y="5029200"/>
            <a:ext cx="8076960" cy="840600"/>
            <a:chOff x="507960" y="5029200"/>
            <a:chExt cx="8076960" cy="840600"/>
          </a:xfrm>
        </p:grpSpPr>
        <p:sp>
          <p:nvSpPr>
            <p:cNvPr id="165" name=""/>
            <p:cNvSpPr/>
            <p:nvPr/>
          </p:nvSpPr>
          <p:spPr>
            <a:xfrm>
              <a:off x="507960" y="5181480"/>
              <a:ext cx="8076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2520" y="5410080"/>
              <a:ext cx="739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    2     3     4     5     6     7    8    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26920" y="502920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174840" y="502920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60640" y="502920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4880" y="502920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289480" y="502920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994360" y="502920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680160" y="502920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289640" y="502920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441520" y="502920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 flipV="1">
            <a:off x="3857760" y="4190760"/>
            <a:ext cx="0" cy="609480"/>
          </a:xfrm>
          <a:prstGeom prst="line">
            <a:avLst/>
          </a:prstGeom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187800" y="4191120"/>
            <a:ext cx="1396800" cy="610920"/>
          </a:xfrm>
          <a:prstGeom prst="rect">
            <a:avLst/>
          </a:prstGeom>
          <a:noFill/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2462040" y="4495320"/>
            <a:ext cx="735120" cy="3240"/>
          </a:xfrm>
          <a:prstGeom prst="line">
            <a:avLst/>
          </a:prstGeom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89640" y="4505400"/>
            <a:ext cx="649080" cy="1440"/>
          </a:xfrm>
          <a:prstGeom prst="line">
            <a:avLst/>
          </a:prstGeom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69840" y="1014480"/>
            <a:ext cx="7245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box-and-whisker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pl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hows the distribution of data. The middle half of the data is represented by a “box” with a vertical line at the median. The lower fourth and upper fourth quarters are represented by “whiskers” that extend to the smallest and largest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96960" y="6094440"/>
            <a:ext cx="29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First quart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324320" y="6103800"/>
            <a:ext cx="29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Third quart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186000" y="5805360"/>
            <a:ext cx="161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Med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2527200" y="4557600"/>
            <a:ext cx="590760" cy="160344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3860640" y="4780080"/>
            <a:ext cx="0" cy="111096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4647960" y="4566960"/>
            <a:ext cx="549000" cy="161604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367000" y="4432320"/>
            <a:ext cx="152280" cy="15228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105000" y="4427640"/>
            <a:ext cx="152640" cy="15228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772080" y="4422600"/>
            <a:ext cx="152280" cy="15264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495680" y="4403880"/>
            <a:ext cx="152640" cy="15228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191200" y="4413240"/>
            <a:ext cx="152280" cy="15228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16812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Use the given data to make a box-and-whisker plot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21, 25, 15, 13, 17, 19, 19, 2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920" y="989280"/>
            <a:ext cx="908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: Making a Box-and-Whisker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98440" y="2631960"/>
            <a:ext cx="865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rder the data and find the smallest value, first quartile, median, third quartile, and largest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35211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3 15 17 19 19 21 21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69720" y="4084560"/>
            <a:ext cx="33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mallest value: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861080" y="409248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rgest value: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376200" y="4923000"/>
            <a:ext cx="4284720" cy="707760"/>
            <a:chOff x="376200" y="4923000"/>
            <a:chExt cx="4284720" cy="707760"/>
          </a:xfrm>
        </p:grpSpPr>
        <p:sp>
          <p:nvSpPr>
            <p:cNvPr id="199" name=""/>
            <p:cNvSpPr/>
            <p:nvPr/>
          </p:nvSpPr>
          <p:spPr>
            <a:xfrm>
              <a:off x="376200" y="5013360"/>
              <a:ext cx="42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first quartile:          = 16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481120" y="4923000"/>
              <a:ext cx="11322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15 + 1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597040" y="5263920"/>
              <a:ext cx="870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4870440" y="4929120"/>
            <a:ext cx="4273560" cy="707760"/>
            <a:chOff x="4870440" y="4929120"/>
            <a:chExt cx="4273560" cy="707760"/>
          </a:xfrm>
        </p:grpSpPr>
        <p:sp>
          <p:nvSpPr>
            <p:cNvPr id="203" name=""/>
            <p:cNvSpPr/>
            <p:nvPr/>
          </p:nvSpPr>
          <p:spPr>
            <a:xfrm>
              <a:off x="4870440" y="5011560"/>
              <a:ext cx="4273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ird quartile:          = 2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075440" y="4929120"/>
              <a:ext cx="113184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21 + 2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191360" y="5270400"/>
              <a:ext cx="870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2679840" y="5708520"/>
            <a:ext cx="3566880" cy="707760"/>
            <a:chOff x="2679840" y="5708520"/>
            <a:chExt cx="3566880" cy="707760"/>
          </a:xfrm>
        </p:grpSpPr>
        <p:sp>
          <p:nvSpPr>
            <p:cNvPr id="207" name=""/>
            <p:cNvSpPr/>
            <p:nvPr/>
          </p:nvSpPr>
          <p:spPr>
            <a:xfrm>
              <a:off x="2679840" y="5783040"/>
              <a:ext cx="35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edian:          = 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022640" y="5708520"/>
              <a:ext cx="113184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19 + 1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138560" y="6049800"/>
              <a:ext cx="870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2565360" y="3510000"/>
            <a:ext cx="2027160" cy="457200"/>
          </a:xfrm>
          <a:prstGeom prst="roundRect">
            <a:avLst>
              <a:gd name="adj" fmla="val 50000"/>
            </a:avLst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049560" y="3532320"/>
            <a:ext cx="1031760" cy="417240"/>
          </a:xfrm>
          <a:prstGeom prst="roundRect">
            <a:avLst>
              <a:gd name="adj" fmla="val 5000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600440" y="3510000"/>
            <a:ext cx="2027520" cy="457200"/>
          </a:xfrm>
          <a:prstGeom prst="roundRect">
            <a:avLst>
              <a:gd name="adj" fmla="val 50000"/>
            </a:avLst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59440" y="3532320"/>
            <a:ext cx="1031760" cy="417240"/>
          </a:xfrm>
          <a:prstGeom prst="roundRect">
            <a:avLst>
              <a:gd name="adj" fmla="val 5000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076640" y="3532320"/>
            <a:ext cx="1005120" cy="417240"/>
          </a:xfrm>
          <a:prstGeom prst="roundRect">
            <a:avLst>
              <a:gd name="adj" fmla="val 5000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98440" y="2633760"/>
            <a:ext cx="884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rder the data and find the smallest value, first quartile, median, third quartile, and largest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71360" y="2538360"/>
            <a:ext cx="8972640" cy="107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163836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Use the given data to make a box-and-whisker plo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533520" y="5472000"/>
            <a:ext cx="8076960" cy="840600"/>
            <a:chOff x="533520" y="5472000"/>
            <a:chExt cx="8076960" cy="840600"/>
          </a:xfrm>
        </p:grpSpPr>
        <p:sp>
          <p:nvSpPr>
            <p:cNvPr id="219" name=""/>
            <p:cNvSpPr/>
            <p:nvPr/>
          </p:nvSpPr>
          <p:spPr>
            <a:xfrm>
              <a:off x="533520" y="5624280"/>
              <a:ext cx="8076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38080" y="5852880"/>
              <a:ext cx="739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2   14   16   18   20   22   24   26  2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752480" y="547200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00400" y="547200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86200" y="547200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600440" y="547200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315040" y="547200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019920" y="547200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05720" y="547200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315200" y="547200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467080" y="547200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2057400" y="4862520"/>
            <a:ext cx="152280" cy="15228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191120" y="4862520"/>
            <a:ext cx="152280" cy="15228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952880" y="4862520"/>
            <a:ext cx="152640" cy="15228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324480" y="4862520"/>
            <a:ext cx="152640" cy="15228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98440" y="2631960"/>
            <a:ext cx="865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raw a number line and plot a point above each value from Step 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97080" y="4871880"/>
            <a:ext cx="152640" cy="15264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467000" y="3814920"/>
            <a:ext cx="1244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mallest value   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35211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3 15 17 19 19 21 21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565360" y="3510000"/>
            <a:ext cx="2027160" cy="457200"/>
          </a:xfrm>
          <a:prstGeom prst="roundRect">
            <a:avLst>
              <a:gd name="adj" fmla="val 50000"/>
            </a:avLst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49560" y="3532320"/>
            <a:ext cx="1031760" cy="417240"/>
          </a:xfrm>
          <a:prstGeom prst="roundRect">
            <a:avLst>
              <a:gd name="adj" fmla="val 5000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600440" y="3510000"/>
            <a:ext cx="2027520" cy="457200"/>
          </a:xfrm>
          <a:prstGeom prst="roundRect">
            <a:avLst>
              <a:gd name="adj" fmla="val 50000"/>
            </a:avLst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059440" y="3532320"/>
            <a:ext cx="1031760" cy="417240"/>
          </a:xfrm>
          <a:prstGeom prst="roundRect">
            <a:avLst>
              <a:gd name="adj" fmla="val 5000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076640" y="3532320"/>
            <a:ext cx="1005120" cy="417240"/>
          </a:xfrm>
          <a:prstGeom prst="roundRect">
            <a:avLst>
              <a:gd name="adj" fmla="val 5000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527200" y="3906720"/>
            <a:ext cx="1312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rst quartile   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556080" y="3971880"/>
            <a:ext cx="1312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08560" y="3936960"/>
            <a:ext cx="1312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quartile   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724360" y="3962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rgest value   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4920" y="989640"/>
            <a:ext cx="908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500"/>
                            </p:stCondLst>
                            <p:childTnLst>
                              <p:par>
                                <p:cTn id="42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2500"/>
                            </p:stCondLst>
                            <p:childTnLst>
                              <p:par>
                                <p:cTn id="43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3000"/>
                            </p:stCondLst>
                            <p:childTnLst>
                              <p:par>
                                <p:cTn id="4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3500"/>
                            </p:stCondLst>
                            <p:childTnLst>
                              <p:par>
                                <p:cTn id="43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4500"/>
                            </p:stCondLst>
                            <p:childTnLst>
                              <p:par>
                                <p:cTn id="44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298440" y="2635200"/>
            <a:ext cx="865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raw a number line and plot a point above each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163836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Use the given data to make a box-and-whisker plo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533520" y="5472000"/>
            <a:ext cx="8076960" cy="840600"/>
            <a:chOff x="533520" y="5472000"/>
            <a:chExt cx="8076960" cy="840600"/>
          </a:xfrm>
        </p:grpSpPr>
        <p:sp>
          <p:nvSpPr>
            <p:cNvPr id="251" name=""/>
            <p:cNvSpPr/>
            <p:nvPr/>
          </p:nvSpPr>
          <p:spPr>
            <a:xfrm>
              <a:off x="533520" y="5624280"/>
              <a:ext cx="8076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38080" y="5852880"/>
              <a:ext cx="739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2   14   16   18   20   22   24   26  2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752480" y="547200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200400" y="547200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886200" y="547200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00440" y="547200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315040" y="547200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19920" y="547200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05720" y="547200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315200" y="547200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467080" y="547200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133360" y="4633560"/>
            <a:ext cx="4267440" cy="625680"/>
            <a:chOff x="2133360" y="4633560"/>
            <a:chExt cx="4267440" cy="625680"/>
          </a:xfrm>
        </p:grpSpPr>
        <p:sp>
          <p:nvSpPr>
            <p:cNvPr id="263" name=""/>
            <p:cNvSpPr/>
            <p:nvPr/>
          </p:nvSpPr>
          <p:spPr>
            <a:xfrm>
              <a:off x="3186000" y="4633920"/>
              <a:ext cx="1847880" cy="625320"/>
            </a:xfrm>
            <a:prstGeom prst="rect">
              <a:avLst/>
            </a:prstGeom>
            <a:noFill/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4267080" y="4633560"/>
              <a:ext cx="0" cy="609480"/>
            </a:xfrm>
            <a:prstGeom prst="line">
              <a:avLst/>
            </a:prstGeom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2133360" y="4938480"/>
              <a:ext cx="1066680" cy="0"/>
            </a:xfrm>
            <a:prstGeom prst="line">
              <a:avLst/>
            </a:prstGeom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29200" y="4938480"/>
              <a:ext cx="1371600" cy="0"/>
            </a:xfrm>
            <a:prstGeom prst="line">
              <a:avLst/>
            </a:prstGeom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177840" y="2529000"/>
            <a:ext cx="8800920" cy="98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98440" y="2631960"/>
            <a:ext cx="865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raw the box and whisk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35211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3 15 17 19 19 21 21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565360" y="3510000"/>
            <a:ext cx="2027160" cy="457200"/>
          </a:xfrm>
          <a:prstGeom prst="roundRect">
            <a:avLst>
              <a:gd name="adj" fmla="val 50000"/>
            </a:avLst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49560" y="3532320"/>
            <a:ext cx="1031760" cy="417240"/>
          </a:xfrm>
          <a:prstGeom prst="roundRect">
            <a:avLst>
              <a:gd name="adj" fmla="val 5000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600440" y="3510000"/>
            <a:ext cx="2027520" cy="457200"/>
          </a:xfrm>
          <a:prstGeom prst="roundRect">
            <a:avLst>
              <a:gd name="adj" fmla="val 50000"/>
            </a:avLst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059440" y="3532320"/>
            <a:ext cx="1031760" cy="417240"/>
          </a:xfrm>
          <a:prstGeom prst="roundRect">
            <a:avLst>
              <a:gd name="adj" fmla="val 5000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076640" y="3532320"/>
            <a:ext cx="1005120" cy="417240"/>
          </a:xfrm>
          <a:prstGeom prst="roundRect">
            <a:avLst>
              <a:gd name="adj" fmla="val 5000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4920" y="989640"/>
            <a:ext cx="908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066760" y="4857840"/>
            <a:ext cx="152640" cy="15228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191120" y="4862520"/>
            <a:ext cx="152280" cy="15228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952880" y="4862520"/>
            <a:ext cx="152640" cy="15228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324480" y="4862520"/>
            <a:ext cx="152640" cy="15228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097080" y="4871880"/>
            <a:ext cx="152640" cy="15264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0" y="348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3 24 26 29 31 31 33 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1638360"/>
            <a:ext cx="91440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Use the given data to make a box-and-whisker plo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31, 23, 33, 35, 26, 24, 31, 2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506600" y="954720"/>
            <a:ext cx="600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99"/>
                </a:solidFill>
                <a:uFillTx/>
                <a:latin typeface="Arial Black"/>
              </a:rPr>
              <a:t>Try This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: Exampl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98440" y="2460600"/>
            <a:ext cx="865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rder the data and find the smallest value, first quartile, median, third quartile, and largest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68360" y="4414680"/>
            <a:ext cx="40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mallest value: 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995720" y="4427640"/>
            <a:ext cx="38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rgest value: 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452520" y="4970520"/>
            <a:ext cx="4284720" cy="707760"/>
            <a:chOff x="452520" y="4970520"/>
            <a:chExt cx="4284720" cy="707760"/>
          </a:xfrm>
        </p:grpSpPr>
        <p:sp>
          <p:nvSpPr>
            <p:cNvPr id="288" name=""/>
            <p:cNvSpPr/>
            <p:nvPr/>
          </p:nvSpPr>
          <p:spPr>
            <a:xfrm>
              <a:off x="452520" y="5060880"/>
              <a:ext cx="42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first quartile:          = 25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557440" y="4970520"/>
              <a:ext cx="113184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24 + 2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673360" y="5311800"/>
              <a:ext cx="870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4662360" y="4951440"/>
            <a:ext cx="4273560" cy="707760"/>
            <a:chOff x="4662360" y="4951440"/>
            <a:chExt cx="4273560" cy="707760"/>
          </a:xfrm>
        </p:grpSpPr>
        <p:sp>
          <p:nvSpPr>
            <p:cNvPr id="292" name=""/>
            <p:cNvSpPr/>
            <p:nvPr/>
          </p:nvSpPr>
          <p:spPr>
            <a:xfrm>
              <a:off x="4662360" y="5051520"/>
              <a:ext cx="4273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ird quartile:          = 3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886440" y="4951440"/>
              <a:ext cx="11322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31 + 3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020000" y="5310000"/>
              <a:ext cx="869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2789280" y="5837400"/>
            <a:ext cx="3567240" cy="707760"/>
            <a:chOff x="2789280" y="5837400"/>
            <a:chExt cx="3567240" cy="707760"/>
          </a:xfrm>
        </p:grpSpPr>
        <p:sp>
          <p:nvSpPr>
            <p:cNvPr id="296" name=""/>
            <p:cNvSpPr/>
            <p:nvPr/>
          </p:nvSpPr>
          <p:spPr>
            <a:xfrm>
              <a:off x="2789280" y="5911920"/>
              <a:ext cx="356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edian:          = 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132440" y="5837400"/>
              <a:ext cx="113184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29 + 3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248000" y="6178680"/>
              <a:ext cx="870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2565360" y="3481560"/>
            <a:ext cx="2027160" cy="457200"/>
          </a:xfrm>
          <a:prstGeom prst="roundRect">
            <a:avLst>
              <a:gd name="adj" fmla="val 50000"/>
            </a:avLst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049560" y="3503520"/>
            <a:ext cx="1031760" cy="417600"/>
          </a:xfrm>
          <a:prstGeom prst="roundRect">
            <a:avLst>
              <a:gd name="adj" fmla="val 5000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600440" y="3481560"/>
            <a:ext cx="2027520" cy="457200"/>
          </a:xfrm>
          <a:prstGeom prst="roundRect">
            <a:avLst>
              <a:gd name="adj" fmla="val 50000"/>
            </a:avLst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059440" y="3503520"/>
            <a:ext cx="1031760" cy="417600"/>
          </a:xfrm>
          <a:prstGeom prst="roundRect">
            <a:avLst>
              <a:gd name="adj" fmla="val 5000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076640" y="3503520"/>
            <a:ext cx="1005120" cy="417600"/>
          </a:xfrm>
          <a:prstGeom prst="roundRect">
            <a:avLst>
              <a:gd name="adj" fmla="val 5000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000"/>
                            </p:stCondLst>
                            <p:childTnLst>
                              <p:par>
                                <p:cTn id="50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500"/>
                            </p:stCondLst>
                            <p:childTnLst>
                              <p:par>
                                <p:cTn id="52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000"/>
                            </p:stCondLst>
                            <p:childTnLst>
                              <p:par>
                                <p:cTn id="52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71360" y="2038320"/>
            <a:ext cx="8972640" cy="107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163836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Use the given data to make a box-and-whisker plo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565360" y="3481560"/>
            <a:ext cx="2027160" cy="457200"/>
          </a:xfrm>
          <a:prstGeom prst="roundRect">
            <a:avLst>
              <a:gd name="adj" fmla="val 50000"/>
            </a:avLst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049560" y="3503520"/>
            <a:ext cx="1031760" cy="417600"/>
          </a:xfrm>
          <a:prstGeom prst="roundRect">
            <a:avLst>
              <a:gd name="adj" fmla="val 5000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600440" y="3481560"/>
            <a:ext cx="2027520" cy="457200"/>
          </a:xfrm>
          <a:prstGeom prst="roundRect">
            <a:avLst>
              <a:gd name="adj" fmla="val 50000"/>
            </a:avLst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059440" y="3503520"/>
            <a:ext cx="1031760" cy="417600"/>
          </a:xfrm>
          <a:prstGeom prst="roundRect">
            <a:avLst>
              <a:gd name="adj" fmla="val 5000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076640" y="3503520"/>
            <a:ext cx="1005120" cy="417600"/>
          </a:xfrm>
          <a:prstGeom prst="roundRect">
            <a:avLst>
              <a:gd name="adj" fmla="val 5000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507960" y="5300640"/>
            <a:ext cx="8076960" cy="840600"/>
            <a:chOff x="507960" y="5300640"/>
            <a:chExt cx="8076960" cy="840600"/>
          </a:xfrm>
        </p:grpSpPr>
        <p:sp>
          <p:nvSpPr>
            <p:cNvPr id="312" name=""/>
            <p:cNvSpPr/>
            <p:nvPr/>
          </p:nvSpPr>
          <p:spPr>
            <a:xfrm>
              <a:off x="507960" y="5452920"/>
              <a:ext cx="8076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12520" y="5681520"/>
              <a:ext cx="739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2   24   26   28   30   32   34   36  3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726920" y="530064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74840" y="530064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60640" y="530064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574880" y="530064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289480" y="530064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994360" y="530064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680160" y="530064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289640" y="530064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441520" y="530064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2057400" y="4691160"/>
            <a:ext cx="152280" cy="15228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781360" y="4691160"/>
            <a:ext cx="152280" cy="15228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505400" y="4691160"/>
            <a:ext cx="152280" cy="15228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219640" y="4691160"/>
            <a:ext cx="152640" cy="15228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276960" y="4691160"/>
            <a:ext cx="152280" cy="15228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28600" y="2584440"/>
            <a:ext cx="865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raw a number line and plot a point above each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348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3 24 26 29 31 31 33 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5840" y="1022760"/>
            <a:ext cx="91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99"/>
                </a:solidFill>
                <a:uFillTx/>
                <a:latin typeface="Arial Black"/>
              </a:rPr>
              <a:t>Try This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: Example 2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000"/>
                            </p:stCondLst>
                            <p:childTnLst>
                              <p:par>
                                <p:cTn id="5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5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200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98440" y="2463840"/>
            <a:ext cx="865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raw a number line and plot a point above each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163836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Use the given data to make a box-and-whisker plo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565360" y="3481560"/>
            <a:ext cx="2027160" cy="457200"/>
          </a:xfrm>
          <a:prstGeom prst="roundRect">
            <a:avLst>
              <a:gd name="adj" fmla="val 50000"/>
            </a:avLst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049560" y="3503520"/>
            <a:ext cx="1031760" cy="417600"/>
          </a:xfrm>
          <a:prstGeom prst="roundRect">
            <a:avLst>
              <a:gd name="adj" fmla="val 5000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600440" y="3481560"/>
            <a:ext cx="2027520" cy="457200"/>
          </a:xfrm>
          <a:prstGeom prst="roundRect">
            <a:avLst>
              <a:gd name="adj" fmla="val 50000"/>
            </a:avLst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59440" y="3503520"/>
            <a:ext cx="1031760" cy="417600"/>
          </a:xfrm>
          <a:prstGeom prst="roundRect">
            <a:avLst>
              <a:gd name="adj" fmla="val 5000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076640" y="3503520"/>
            <a:ext cx="1005120" cy="417600"/>
          </a:xfrm>
          <a:prstGeom prst="roundRect">
            <a:avLst>
              <a:gd name="adj" fmla="val 5000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507960" y="5300640"/>
            <a:ext cx="8076960" cy="840600"/>
            <a:chOff x="507960" y="5300640"/>
            <a:chExt cx="8076960" cy="840600"/>
          </a:xfrm>
        </p:grpSpPr>
        <p:sp>
          <p:nvSpPr>
            <p:cNvPr id="339" name=""/>
            <p:cNvSpPr/>
            <p:nvPr/>
          </p:nvSpPr>
          <p:spPr>
            <a:xfrm>
              <a:off x="507960" y="5452920"/>
              <a:ext cx="8076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12520" y="5681520"/>
              <a:ext cx="739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2   24   26   28   30   32   34   36  3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726920" y="530064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174840" y="530064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60640" y="530064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574880" y="530064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289480" y="530064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994360" y="530064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680160" y="530064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289640" y="530064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441520" y="530064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177840" y="2357280"/>
            <a:ext cx="8800920" cy="98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98440" y="2460600"/>
            <a:ext cx="865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raw the box and whisk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348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3 24 26 29 31 31 33 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2147760" y="4462200"/>
            <a:ext cx="4219560" cy="625680"/>
            <a:chOff x="2147760" y="4462200"/>
            <a:chExt cx="4219560" cy="625680"/>
          </a:xfrm>
        </p:grpSpPr>
        <p:sp>
          <p:nvSpPr>
            <p:cNvPr id="354" name=""/>
            <p:cNvSpPr/>
            <p:nvPr/>
          </p:nvSpPr>
          <p:spPr>
            <a:xfrm flipV="1">
              <a:off x="4586400" y="4462200"/>
              <a:ext cx="0" cy="609480"/>
            </a:xfrm>
            <a:prstGeom prst="line">
              <a:avLst/>
            </a:prstGeom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73520" y="4462560"/>
              <a:ext cx="2409840" cy="625320"/>
            </a:xfrm>
            <a:prstGeom prst="rect">
              <a:avLst/>
            </a:prstGeom>
            <a:noFill/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 flipV="1">
              <a:off x="2147760" y="4766760"/>
              <a:ext cx="735120" cy="3240"/>
            </a:xfrm>
            <a:prstGeom prst="line">
              <a:avLst/>
            </a:prstGeom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288040" y="4762440"/>
              <a:ext cx="1079280" cy="1800"/>
            </a:xfrm>
            <a:prstGeom prst="line">
              <a:avLst/>
            </a:prstGeom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15840" y="1022760"/>
            <a:ext cx="91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99"/>
                </a:solidFill>
                <a:uFillTx/>
                <a:latin typeface="Arial Black"/>
              </a:rPr>
              <a:t>Try This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: Example 2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057400" y="4691160"/>
            <a:ext cx="152280" cy="15228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781360" y="4691160"/>
            <a:ext cx="152280" cy="15228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505400" y="4691160"/>
            <a:ext cx="152280" cy="15228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219640" y="4691160"/>
            <a:ext cx="152640" cy="15228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276960" y="4691160"/>
            <a:ext cx="152280" cy="15228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500"/>
                            </p:stCondLst>
                            <p:childTnLst>
                              <p:par>
                                <p:cTn id="5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461880" y="771840"/>
            <a:ext cx="823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3: Comparing Data Sets Using Box-and-Whisker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71600" y="434988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se box-and-whisker plots compare the ages of the first ten U.S. presidents with the ages of the last ten presidents (through George W. Bush) when they took offi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081160" y="1700280"/>
            <a:ext cx="4997520" cy="244152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7027920" y="1835280"/>
            <a:ext cx="236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: 57 is the first quartile and the medi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933480"/>
            <a:ext cx="8153280" cy="506736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rder the test scores from least to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: 89, 93, 79, 87, 91, 88, 9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ind the median of the test sc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nd the differ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20600" y="2294640"/>
            <a:ext cx="55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79, 87, 88, 89, 91, 92, 9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93600" y="33649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328840" y="4742640"/>
            <a:ext cx="18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16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1440" y="6557040"/>
              <a:ext cx="2627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Pre-Algeb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512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Variabilit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6996240" y="5333400"/>
            <a:ext cx="18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166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72200" y="4742640"/>
            <a:ext cx="18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0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57280" y="5342760"/>
            <a:ext cx="181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3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0680" y="4606920"/>
            <a:ext cx="92120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17 – 0.9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8.4 – 7.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7720" y="5348160"/>
            <a:ext cx="915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9.1 – 5.7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190.3 – 23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461880" y="954720"/>
            <a:ext cx="823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3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2081160" y="1700280"/>
            <a:ext cx="4997520" cy="244152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69800" y="44910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. Compare the medians and ranges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955800" y="4952880"/>
            <a:ext cx="724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edian for the first ten presidents is slightly greater. The range for the last ten presidents is gre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027920" y="1835280"/>
            <a:ext cx="236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: 57 is the first quartile and the medi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0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461880" y="954720"/>
            <a:ext cx="823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3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2081160" y="1700280"/>
            <a:ext cx="4997520" cy="244152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469800" y="44910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. Compare the differences between the third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rtile and first quartile for each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960480" y="5289480"/>
            <a:ext cx="75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difference between the third quartile and first quartile is the length of the box, which is greater for the last ten presid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027920" y="1835280"/>
            <a:ext cx="236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: 57 is the first quartile and the medi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0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461880" y="954720"/>
            <a:ext cx="823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99"/>
                </a:solidFill>
                <a:uFillTx/>
                <a:latin typeface="Arial Black"/>
              </a:rPr>
              <a:t>Try This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: Exampl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322200" y="1477800"/>
          <a:ext cx="4356000" cy="1185840"/>
        </p:xfrm>
        <a:graphic>
          <a:graphicData uri="http://schemas.openxmlformats.org/drawingml/2006/table">
            <a:tbl>
              <a:tblPr/>
              <a:tblGrid>
                <a:gridCol w="1495440"/>
                <a:gridCol w="536400"/>
                <a:gridCol w="581040"/>
                <a:gridCol w="581040"/>
                <a:gridCol w="581040"/>
                <a:gridCol w="5810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ak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mpa B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0" name=""/>
          <p:cNvSpPr/>
          <p:nvPr/>
        </p:nvSpPr>
        <p:spPr>
          <a:xfrm>
            <a:off x="223920" y="2962440"/>
            <a:ext cx="3838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se box-and-whisker plots compare the scores per quarter at Super Bowl XXXVII. The data in the T column is left out because it is a total of all the quar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859200" y="2449440"/>
            <a:ext cx="5056200" cy="3817080"/>
            <a:chOff x="3859200" y="2449440"/>
            <a:chExt cx="5056200" cy="3817080"/>
          </a:xfrm>
        </p:grpSpPr>
        <p:sp>
          <p:nvSpPr>
            <p:cNvPr id="382" name=""/>
            <p:cNvSpPr/>
            <p:nvPr/>
          </p:nvSpPr>
          <p:spPr>
            <a:xfrm flipV="1">
              <a:off x="3963960" y="3671280"/>
              <a:ext cx="4540320" cy="468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929120" y="2449440"/>
              <a:ext cx="263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akla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300560" y="3563640"/>
              <a:ext cx="0" cy="2174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923000" y="3562200"/>
              <a:ext cx="0" cy="2174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572080" y="3563640"/>
              <a:ext cx="0" cy="2174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173640" y="3563640"/>
              <a:ext cx="0" cy="2174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497720" y="3562200"/>
              <a:ext cx="0" cy="2174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772320" y="3560400"/>
              <a:ext cx="0" cy="21780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859200" y="3816000"/>
              <a:ext cx="497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0    3    6    9   12   15   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606920" y="2879640"/>
              <a:ext cx="1555920" cy="56196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256360" y="2879640"/>
              <a:ext cx="0" cy="56196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294080" y="2879640"/>
              <a:ext cx="0" cy="56196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751800" y="2879640"/>
              <a:ext cx="0" cy="56196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299120" y="3160440"/>
              <a:ext cx="307800" cy="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164280" y="3160440"/>
              <a:ext cx="587520" cy="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014800" y="5135400"/>
              <a:ext cx="1081080" cy="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103800" y="4848120"/>
              <a:ext cx="1560600" cy="56196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269120" y="4868640"/>
              <a:ext cx="0" cy="54936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954920" y="4846320"/>
              <a:ext cx="0" cy="55260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019840" y="4868640"/>
              <a:ext cx="0" cy="54612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677000" y="5133600"/>
              <a:ext cx="265320" cy="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110200" y="4392360"/>
              <a:ext cx="266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ampa B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221680" y="3562200"/>
              <a:ext cx="0" cy="2174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4049640" y="5643000"/>
              <a:ext cx="4540320" cy="468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386240" y="5535360"/>
              <a:ext cx="0" cy="2174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08680" y="5533920"/>
              <a:ext cx="0" cy="2174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657760" y="5535360"/>
              <a:ext cx="0" cy="2174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259680" y="5535360"/>
              <a:ext cx="0" cy="2174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583400" y="5533920"/>
              <a:ext cx="0" cy="2174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858000" y="5532120"/>
              <a:ext cx="0" cy="2174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944880" y="5806800"/>
              <a:ext cx="497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0    3    6    9   12   15   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307360" y="5533920"/>
              <a:ext cx="0" cy="2174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249800" y="3098520"/>
              <a:ext cx="100080" cy="101520"/>
            </a:xfrm>
            <a:prstGeom prst="ellipse">
              <a:avLst/>
            </a:prstGeom>
            <a:solidFill>
              <a:srgbClr val="006699"/>
            </a:solidFill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530600" y="3108240"/>
              <a:ext cx="100080" cy="101520"/>
            </a:xfrm>
            <a:prstGeom prst="ellipse">
              <a:avLst/>
            </a:prstGeom>
            <a:solidFill>
              <a:srgbClr val="006699"/>
            </a:solidFill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97320" y="3117600"/>
              <a:ext cx="100080" cy="101520"/>
            </a:xfrm>
            <a:prstGeom prst="ellipse">
              <a:avLst/>
            </a:prstGeom>
            <a:solidFill>
              <a:srgbClr val="006699"/>
            </a:solidFill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093000" y="3112920"/>
              <a:ext cx="99720" cy="101520"/>
            </a:xfrm>
            <a:prstGeom prst="ellipse">
              <a:avLst/>
            </a:prstGeom>
            <a:solidFill>
              <a:srgbClr val="006699"/>
            </a:solidFill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702480" y="3108240"/>
              <a:ext cx="100080" cy="101520"/>
            </a:xfrm>
            <a:prstGeom prst="ellipse">
              <a:avLst/>
            </a:prstGeom>
            <a:solidFill>
              <a:srgbClr val="006699"/>
            </a:solidFill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970520" y="5074920"/>
              <a:ext cx="100080" cy="101880"/>
            </a:xfrm>
            <a:prstGeom prst="ellipse">
              <a:avLst/>
            </a:prstGeom>
            <a:solidFill>
              <a:srgbClr val="006699"/>
            </a:solidFill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043680" y="5082840"/>
              <a:ext cx="100080" cy="101880"/>
            </a:xfrm>
            <a:prstGeom prst="ellipse">
              <a:avLst/>
            </a:prstGeom>
            <a:solidFill>
              <a:srgbClr val="006699"/>
            </a:solidFill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211880" y="5076720"/>
              <a:ext cx="100080" cy="101520"/>
            </a:xfrm>
            <a:prstGeom prst="ellipse">
              <a:avLst/>
            </a:prstGeom>
            <a:solidFill>
              <a:srgbClr val="006699"/>
            </a:solidFill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607160" y="5086080"/>
              <a:ext cx="100080" cy="101520"/>
            </a:xfrm>
            <a:prstGeom prst="ellipse">
              <a:avLst/>
            </a:prstGeom>
            <a:solidFill>
              <a:srgbClr val="006699"/>
            </a:solidFill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894800" y="5081400"/>
              <a:ext cx="99720" cy="101520"/>
            </a:xfrm>
            <a:prstGeom prst="ellipse">
              <a:avLst/>
            </a:prstGeom>
            <a:solidFill>
              <a:srgbClr val="006699"/>
            </a:solidFill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517680" y="2295360"/>
            <a:ext cx="382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. Compare the medians and ranges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61880" y="954720"/>
            <a:ext cx="823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99"/>
                </a:solidFill>
                <a:uFillTx/>
                <a:latin typeface="Arial Black"/>
              </a:rPr>
              <a:t>Try This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: Example 3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61960" y="3292560"/>
            <a:ext cx="3433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edian for Tampa Bay is significantly greater, however the range for Tampa Bay is slightly gre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3859200" y="2449440"/>
            <a:ext cx="5056200" cy="3817080"/>
            <a:chOff x="3859200" y="2449440"/>
            <a:chExt cx="5056200" cy="3817080"/>
          </a:xfrm>
        </p:grpSpPr>
        <p:sp>
          <p:nvSpPr>
            <p:cNvPr id="428" name=""/>
            <p:cNvSpPr/>
            <p:nvPr/>
          </p:nvSpPr>
          <p:spPr>
            <a:xfrm flipV="1">
              <a:off x="3963960" y="3671280"/>
              <a:ext cx="4540320" cy="468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929120" y="2449440"/>
              <a:ext cx="263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akla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300560" y="3563640"/>
              <a:ext cx="0" cy="2174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923000" y="3562200"/>
              <a:ext cx="0" cy="2174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572080" y="3563640"/>
              <a:ext cx="0" cy="2174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173640" y="3563640"/>
              <a:ext cx="0" cy="2174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497720" y="3562200"/>
              <a:ext cx="0" cy="2174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772320" y="3560400"/>
              <a:ext cx="0" cy="21780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859200" y="3816000"/>
              <a:ext cx="497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0    3    6    9   12   15   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606920" y="2879640"/>
              <a:ext cx="1555920" cy="56196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256360" y="2879640"/>
              <a:ext cx="0" cy="56196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294080" y="2879640"/>
              <a:ext cx="0" cy="56196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751800" y="2879640"/>
              <a:ext cx="0" cy="56196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299120" y="3160440"/>
              <a:ext cx="307800" cy="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164280" y="3160440"/>
              <a:ext cx="587520" cy="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014800" y="5135400"/>
              <a:ext cx="1081080" cy="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103800" y="4848120"/>
              <a:ext cx="1560600" cy="56196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269120" y="4868640"/>
              <a:ext cx="0" cy="54936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954920" y="4846320"/>
              <a:ext cx="0" cy="55260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019840" y="4868640"/>
              <a:ext cx="0" cy="54612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677000" y="5133600"/>
              <a:ext cx="265320" cy="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110200" y="4392360"/>
              <a:ext cx="266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ampa B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221680" y="3562200"/>
              <a:ext cx="0" cy="2174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4049640" y="5643000"/>
              <a:ext cx="4540320" cy="468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386240" y="5535360"/>
              <a:ext cx="0" cy="2174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008680" y="5533920"/>
              <a:ext cx="0" cy="2174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657760" y="5535360"/>
              <a:ext cx="0" cy="2174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259680" y="5535360"/>
              <a:ext cx="0" cy="2174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583400" y="5533920"/>
              <a:ext cx="0" cy="2174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858000" y="5532120"/>
              <a:ext cx="0" cy="2174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944880" y="5806800"/>
              <a:ext cx="497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0    3    6    9   12   15   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307360" y="5533920"/>
              <a:ext cx="0" cy="2174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249800" y="3098520"/>
              <a:ext cx="100080" cy="101520"/>
            </a:xfrm>
            <a:prstGeom prst="ellipse">
              <a:avLst/>
            </a:prstGeom>
            <a:solidFill>
              <a:srgbClr val="006699"/>
            </a:solidFill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530600" y="3108240"/>
              <a:ext cx="100080" cy="101520"/>
            </a:xfrm>
            <a:prstGeom prst="ellipse">
              <a:avLst/>
            </a:prstGeom>
            <a:solidFill>
              <a:srgbClr val="006699"/>
            </a:solidFill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197320" y="3117600"/>
              <a:ext cx="100080" cy="101520"/>
            </a:xfrm>
            <a:prstGeom prst="ellipse">
              <a:avLst/>
            </a:prstGeom>
            <a:solidFill>
              <a:srgbClr val="006699"/>
            </a:solidFill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093000" y="3112920"/>
              <a:ext cx="99720" cy="101520"/>
            </a:xfrm>
            <a:prstGeom prst="ellipse">
              <a:avLst/>
            </a:prstGeom>
            <a:solidFill>
              <a:srgbClr val="006699"/>
            </a:solidFill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702480" y="3108240"/>
              <a:ext cx="100080" cy="101520"/>
            </a:xfrm>
            <a:prstGeom prst="ellipse">
              <a:avLst/>
            </a:prstGeom>
            <a:solidFill>
              <a:srgbClr val="006699"/>
            </a:solidFill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970520" y="5074920"/>
              <a:ext cx="100080" cy="101880"/>
            </a:xfrm>
            <a:prstGeom prst="ellipse">
              <a:avLst/>
            </a:prstGeom>
            <a:solidFill>
              <a:srgbClr val="006699"/>
            </a:solidFill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043680" y="5082840"/>
              <a:ext cx="100080" cy="101880"/>
            </a:xfrm>
            <a:prstGeom prst="ellipse">
              <a:avLst/>
            </a:prstGeom>
            <a:solidFill>
              <a:srgbClr val="006699"/>
            </a:solidFill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211880" y="5076720"/>
              <a:ext cx="100080" cy="101520"/>
            </a:xfrm>
            <a:prstGeom prst="ellipse">
              <a:avLst/>
            </a:prstGeom>
            <a:solidFill>
              <a:srgbClr val="006699"/>
            </a:solidFill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607160" y="5086080"/>
              <a:ext cx="100080" cy="101520"/>
            </a:xfrm>
            <a:prstGeom prst="ellipse">
              <a:avLst/>
            </a:prstGeom>
            <a:solidFill>
              <a:srgbClr val="006699"/>
            </a:solidFill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894800" y="5081400"/>
              <a:ext cx="99720" cy="101520"/>
            </a:xfrm>
            <a:prstGeom prst="ellipse">
              <a:avLst/>
            </a:prstGeom>
            <a:solidFill>
              <a:srgbClr val="006699"/>
            </a:solidFill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0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458640" y="1749600"/>
            <a:ext cx="370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. Compare the differences between the third quartile and first quartile for each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61880" y="954720"/>
            <a:ext cx="823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99"/>
                </a:solidFill>
                <a:uFillTx/>
                <a:latin typeface="Arial Black"/>
              </a:rPr>
              <a:t>Try This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: Example 3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77720" y="3672000"/>
            <a:ext cx="3679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difference between the third quartile and first quartile is the length of the box, which is slightly greater for Oakl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3859200" y="2449440"/>
            <a:ext cx="5056200" cy="3817080"/>
            <a:chOff x="3859200" y="2449440"/>
            <a:chExt cx="5056200" cy="3817080"/>
          </a:xfrm>
        </p:grpSpPr>
        <p:sp>
          <p:nvSpPr>
            <p:cNvPr id="474" name=""/>
            <p:cNvSpPr/>
            <p:nvPr/>
          </p:nvSpPr>
          <p:spPr>
            <a:xfrm flipV="1">
              <a:off x="3963960" y="3671280"/>
              <a:ext cx="4540320" cy="468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929120" y="2449440"/>
              <a:ext cx="263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akla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300560" y="3563640"/>
              <a:ext cx="0" cy="2174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923000" y="3562200"/>
              <a:ext cx="0" cy="2174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572080" y="3563640"/>
              <a:ext cx="0" cy="2174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173640" y="3563640"/>
              <a:ext cx="0" cy="2174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497720" y="3562200"/>
              <a:ext cx="0" cy="2174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772320" y="3560400"/>
              <a:ext cx="0" cy="21780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859200" y="3816000"/>
              <a:ext cx="497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0    3    6    9   12   15   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606920" y="2879640"/>
              <a:ext cx="1555920" cy="56196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256360" y="2879640"/>
              <a:ext cx="0" cy="56196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294080" y="2879640"/>
              <a:ext cx="0" cy="56196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751800" y="2879640"/>
              <a:ext cx="0" cy="56196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299120" y="3160440"/>
              <a:ext cx="307800" cy="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164280" y="3160440"/>
              <a:ext cx="587520" cy="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014800" y="5135400"/>
              <a:ext cx="1081080" cy="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103800" y="4848120"/>
              <a:ext cx="1560600" cy="56196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269120" y="4868640"/>
              <a:ext cx="0" cy="54936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954920" y="4846320"/>
              <a:ext cx="0" cy="55260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019840" y="4868640"/>
              <a:ext cx="0" cy="54612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677000" y="5133600"/>
              <a:ext cx="265320" cy="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110200" y="4392360"/>
              <a:ext cx="266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ampa B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221680" y="3562200"/>
              <a:ext cx="0" cy="2174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4049640" y="5643000"/>
              <a:ext cx="4540320" cy="468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386240" y="5535360"/>
              <a:ext cx="0" cy="2174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008680" y="5533920"/>
              <a:ext cx="0" cy="2174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657760" y="5535360"/>
              <a:ext cx="0" cy="2174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259680" y="5535360"/>
              <a:ext cx="0" cy="2174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583400" y="5533920"/>
              <a:ext cx="0" cy="2174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858000" y="5532120"/>
              <a:ext cx="0" cy="2174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944880" y="5806800"/>
              <a:ext cx="497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0    3    6    9   12   15   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307360" y="5533920"/>
              <a:ext cx="0" cy="2174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249800" y="3098520"/>
              <a:ext cx="100080" cy="101520"/>
            </a:xfrm>
            <a:prstGeom prst="ellipse">
              <a:avLst/>
            </a:prstGeom>
            <a:solidFill>
              <a:srgbClr val="006699"/>
            </a:solidFill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530600" y="3108240"/>
              <a:ext cx="100080" cy="101520"/>
            </a:xfrm>
            <a:prstGeom prst="ellipse">
              <a:avLst/>
            </a:prstGeom>
            <a:solidFill>
              <a:srgbClr val="006699"/>
            </a:solidFill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197320" y="3117600"/>
              <a:ext cx="100080" cy="101520"/>
            </a:xfrm>
            <a:prstGeom prst="ellipse">
              <a:avLst/>
            </a:prstGeom>
            <a:solidFill>
              <a:srgbClr val="006699"/>
            </a:solidFill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093000" y="3112920"/>
              <a:ext cx="99720" cy="101520"/>
            </a:xfrm>
            <a:prstGeom prst="ellipse">
              <a:avLst/>
            </a:prstGeom>
            <a:solidFill>
              <a:srgbClr val="006699"/>
            </a:solidFill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702480" y="3108240"/>
              <a:ext cx="100080" cy="101520"/>
            </a:xfrm>
            <a:prstGeom prst="ellipse">
              <a:avLst/>
            </a:prstGeom>
            <a:solidFill>
              <a:srgbClr val="006699"/>
            </a:solidFill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970520" y="5074920"/>
              <a:ext cx="100080" cy="101880"/>
            </a:xfrm>
            <a:prstGeom prst="ellipse">
              <a:avLst/>
            </a:prstGeom>
            <a:solidFill>
              <a:srgbClr val="006699"/>
            </a:solidFill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043680" y="5082840"/>
              <a:ext cx="100080" cy="101880"/>
            </a:xfrm>
            <a:prstGeom prst="ellipse">
              <a:avLst/>
            </a:prstGeom>
            <a:solidFill>
              <a:srgbClr val="006699"/>
            </a:solidFill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211880" y="5076720"/>
              <a:ext cx="100080" cy="101520"/>
            </a:xfrm>
            <a:prstGeom prst="ellipse">
              <a:avLst/>
            </a:prstGeom>
            <a:solidFill>
              <a:srgbClr val="006699"/>
            </a:solidFill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607160" y="5086080"/>
              <a:ext cx="100080" cy="101520"/>
            </a:xfrm>
            <a:prstGeom prst="ellipse">
              <a:avLst/>
            </a:prstGeom>
            <a:solidFill>
              <a:srgbClr val="006699"/>
            </a:solidFill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894800" y="5081400"/>
              <a:ext cx="99720" cy="101520"/>
            </a:xfrm>
            <a:prstGeom prst="ellipse">
              <a:avLst/>
            </a:prstGeom>
            <a:solidFill>
              <a:srgbClr val="006699"/>
            </a:solidFill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0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0" y="8942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33520" y="1754280"/>
            <a:ext cx="7924680" cy="39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range and the first and third quartile for each data set.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8, 52, 68, 32, 53, 47, 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3, 18, 11, 2, 7, 5, 9, 6, 13, 1, 17, 8,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95400" y="4756680"/>
            <a:ext cx="598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range = 18; Q1 = 2.5; Q3 =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995400" y="3499200"/>
            <a:ext cx="52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range = 36; Q1 = 47; Q3 = 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0" y="8942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33520" y="1638000"/>
            <a:ext cx="7924680" cy="39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following data for problems 3 and 4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91, 87, 98, 93, 89, 78, 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ake a box-and-whisker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What is the me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533600" y="515196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1590840" y="3419640"/>
            <a:ext cx="6429240" cy="1144440"/>
            <a:chOff x="1590840" y="3419640"/>
            <a:chExt cx="6429240" cy="1144440"/>
          </a:xfrm>
        </p:grpSpPr>
        <p:sp>
          <p:nvSpPr>
            <p:cNvPr id="524" name=""/>
            <p:cNvSpPr/>
            <p:nvPr/>
          </p:nvSpPr>
          <p:spPr>
            <a:xfrm>
              <a:off x="1752480" y="4104360"/>
              <a:ext cx="626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78                 87       91    94        9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238640" y="3419640"/>
              <a:ext cx="1990800" cy="4474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590840" y="4114800"/>
              <a:ext cx="6372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019240" y="3962520"/>
              <a:ext cx="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238640" y="3962520"/>
              <a:ext cx="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410080" y="3962520"/>
              <a:ext cx="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219720" y="3962520"/>
              <a:ext cx="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467480" y="3962520"/>
              <a:ext cx="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019240" y="3638520"/>
              <a:ext cx="2210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210360" y="3638520"/>
              <a:ext cx="12193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5410080" y="3429000"/>
              <a:ext cx="0" cy="457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353200" y="3571920"/>
              <a:ext cx="109440" cy="10944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1600200"/>
            <a:ext cx="7667640" cy="281952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are the possible values for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n the data set 22, 12, 33, 25, an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f the median is 25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76280" y="3657600"/>
            <a:ext cx="76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any number greater than or equal to 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80880" y="2438280"/>
            <a:ext cx="8277480" cy="74304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Verdana"/>
              </a:rPr>
              <a:t>Lear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to find measures of variability</a:t>
            </a:r>
            <a:r>
              <a:rPr b="0" lang="en-US" sz="3000" spc="-1" strike="noStrike">
                <a:solidFill>
                  <a:srgbClr val="000000"/>
                </a:solidFill>
                <a:latin typeface="AGaramond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Arial Black"/>
              </a:rPr>
              <a:t>Vocabul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1828800"/>
            <a:ext cx="7162920" cy="271476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ari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r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x-and-whisker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847800" y="1143000"/>
            <a:ext cx="7677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table below summarizes a veterinarian’s records for kitten litters born in a given ye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585800" y="2701800"/>
          <a:ext cx="5791320" cy="1681200"/>
        </p:xfrm>
        <a:graphic>
          <a:graphicData uri="http://schemas.openxmlformats.org/drawingml/2006/table">
            <a:tbl>
              <a:tblPr/>
              <a:tblGrid>
                <a:gridCol w="2803680"/>
                <a:gridCol w="568440"/>
                <a:gridCol w="600120"/>
                <a:gridCol w="590400"/>
                <a:gridCol w="671400"/>
                <a:gridCol w="557280"/>
              </a:tblGrid>
              <a:tr h="734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tter Siz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339933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99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umber of Litt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3399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99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"/>
          <p:cNvSpPr/>
          <p:nvPr/>
        </p:nvSpPr>
        <p:spPr>
          <a:xfrm>
            <a:off x="914400" y="4657680"/>
            <a:ext cx="75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ile central tendency describes the middle of a data set,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variabilit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describes how spread out the data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2440" y="923760"/>
            <a:ext cx="8229600" cy="17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61920" y="1085760"/>
            <a:ext cx="736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rang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a data set is the largest value minus the smallest valu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19280" y="4697280"/>
            <a:ext cx="7495920" cy="153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30200" y="473220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ange is affected by outliers, so another measure is often used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Quartil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ivide a data set into four equal parts. The third quartile minus the first quartile is the range for the middle half of the da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500"/>
                            </p:stCondLst>
                            <p:childTnLst>
                              <p:par>
                                <p:cTn id="9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1628640" y="2730600"/>
          <a:ext cx="5791320" cy="1681200"/>
        </p:xfrm>
        <a:graphic>
          <a:graphicData uri="http://schemas.openxmlformats.org/drawingml/2006/table">
            <a:tbl>
              <a:tblPr/>
              <a:tblGrid>
                <a:gridCol w="2803680"/>
                <a:gridCol w="568440"/>
                <a:gridCol w="600120"/>
                <a:gridCol w="590400"/>
                <a:gridCol w="673200"/>
                <a:gridCol w="555480"/>
              </a:tblGrid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tter Siz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339933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Litt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3399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961920" y="1085760"/>
            <a:ext cx="736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ange of a data set is the largest value minus the smallest value. For the kitten data, the range is 6 — 2 = 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" y="464832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ange is affected by outliers, so another measure is often used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Quartil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ivide a data set into four equal parts. The third quartile minus the first quartile is the range for the middle half of the da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62040" y="2666880"/>
            <a:ext cx="6105600" cy="183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1000080"/>
            <a:ext cx="7362720" cy="183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3240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itten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2384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 3 3 3 3 3 3 4 4 4 4 4 4 4 4 5 5 5 5 5 5 5 5 5 5 5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23920" y="1819440"/>
            <a:ext cx="32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Verdana"/>
              </a:rPr>
              <a:t>Lower ha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05200" y="1819440"/>
            <a:ext cx="32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Verdana"/>
              </a:rPr>
              <a:t>Upper ha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2295360"/>
            <a:ext cx="3295800" cy="3240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14920" y="2295360"/>
            <a:ext cx="3295440" cy="3240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114560" y="2305080"/>
            <a:ext cx="3333600" cy="1173960"/>
            <a:chOff x="1114560" y="2305080"/>
            <a:chExt cx="3333600" cy="1173960"/>
          </a:xfrm>
        </p:grpSpPr>
        <p:sp>
          <p:nvSpPr>
            <p:cNvPr id="94" name=""/>
            <p:cNvSpPr/>
            <p:nvPr/>
          </p:nvSpPr>
          <p:spPr>
            <a:xfrm>
              <a:off x="1114560" y="2714760"/>
              <a:ext cx="3333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6600"/>
                  </a:solidFill>
                  <a:latin typeface="Verdana"/>
                </a:rPr>
                <a:t>First quartile: 3 median of lower hal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705040" y="2305080"/>
              <a:ext cx="238320" cy="304920"/>
            </a:xfrm>
            <a:custGeom>
              <a:avLst/>
              <a:gdLst>
                <a:gd name="textAreaLeft" fmla="*/ 11520 w 238320"/>
                <a:gd name="textAreaRight" fmla="*/ 226800 w 238320"/>
                <a:gd name="textAreaTop" fmla="*/ 11520 h 304920"/>
                <a:gd name="textAreaBottom" fmla="*/ 293400 h 304920"/>
              </a:gdLst>
              <a:ahLst/>
              <a:rect l="textAreaLeft" t="textAreaTop" r="textAreaRight" b="textAreaBottom"/>
              <a:pathLst>
                <a:path w="21600" h="27627">
                  <a:moveTo>
                    <a:pt x="3600" y="0"/>
                  </a:moveTo>
                  <a:arcTo wR="3600" hR="3600" stAng="16200000" swAng="-5400000"/>
                  <a:lnTo>
                    <a:pt x="0" y="24027"/>
                  </a:lnTo>
                  <a:arcTo wR="3600" hR="3600" stAng="10800000" swAng="-5400000"/>
                  <a:lnTo>
                    <a:pt x="18000" y="2762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724280" y="2305080"/>
            <a:ext cx="3327480" cy="1164240"/>
            <a:chOff x="4724280" y="2305080"/>
            <a:chExt cx="3327480" cy="1164240"/>
          </a:xfrm>
        </p:grpSpPr>
        <p:sp>
          <p:nvSpPr>
            <p:cNvPr id="97" name=""/>
            <p:cNvSpPr/>
            <p:nvPr/>
          </p:nvSpPr>
          <p:spPr>
            <a:xfrm>
              <a:off x="4724280" y="2705040"/>
              <a:ext cx="3327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6600"/>
                  </a:solidFill>
                  <a:latin typeface="Verdana"/>
                </a:rPr>
                <a:t>Third quartile: 5 median of upper hal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29440" y="2305080"/>
              <a:ext cx="237960" cy="304920"/>
            </a:xfrm>
            <a:custGeom>
              <a:avLst/>
              <a:gdLst>
                <a:gd name="textAreaLeft" fmla="*/ 11520 w 237960"/>
                <a:gd name="textAreaRight" fmla="*/ 226440 w 237960"/>
                <a:gd name="textAreaTop" fmla="*/ 11520 h 304920"/>
                <a:gd name="textAreaBottom" fmla="*/ 293400 h 304920"/>
              </a:gdLst>
              <a:ahLst/>
              <a:rect l="textAreaLeft" t="textAreaTop" r="textAreaRight" b="textAreaBottom"/>
              <a:pathLst>
                <a:path w="21600" h="27669">
                  <a:moveTo>
                    <a:pt x="3600" y="0"/>
                  </a:moveTo>
                  <a:arcTo wR="3600" hR="3600" stAng="16200000" swAng="-5400000"/>
                  <a:lnTo>
                    <a:pt x="0" y="24069"/>
                  </a:lnTo>
                  <a:arcTo wR="3600" hR="3600" stAng="10800000" swAng="-5400000"/>
                  <a:lnTo>
                    <a:pt x="18000" y="2766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3295800" y="2295360"/>
            <a:ext cx="2628720" cy="1812240"/>
            <a:chOff x="3295800" y="2295360"/>
            <a:chExt cx="2628720" cy="1812240"/>
          </a:xfrm>
        </p:grpSpPr>
        <p:grpSp>
          <p:nvGrpSpPr>
            <p:cNvPr id="100" name=""/>
            <p:cNvGrpSpPr/>
            <p:nvPr/>
          </p:nvGrpSpPr>
          <p:grpSpPr>
            <a:xfrm>
              <a:off x="3295800" y="2295360"/>
              <a:ext cx="2628720" cy="1812240"/>
              <a:chOff x="3295800" y="2295360"/>
              <a:chExt cx="2628720" cy="1812240"/>
            </a:xfrm>
          </p:grpSpPr>
          <p:sp>
            <p:nvSpPr>
              <p:cNvPr id="101" name=""/>
              <p:cNvSpPr/>
              <p:nvPr/>
            </p:nvSpPr>
            <p:spPr>
              <a:xfrm>
                <a:off x="3295800" y="3343320"/>
                <a:ext cx="26287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200" spc="-1" strike="noStrike">
                    <a:solidFill>
                      <a:srgbClr val="ff6600"/>
                    </a:solidFill>
                    <a:latin typeface="Verdana"/>
                  </a:rPr>
                  <a:t>Median: 4 (second quartile)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457880" y="2295360"/>
                <a:ext cx="237960" cy="304920"/>
              </a:xfrm>
              <a:custGeom>
                <a:avLst/>
                <a:gdLst>
                  <a:gd name="textAreaLeft" fmla="*/ 11520 w 237960"/>
                  <a:gd name="textAreaRight" fmla="*/ 226440 w 237960"/>
                  <a:gd name="textAreaTop" fmla="*/ 11520 h 304920"/>
                  <a:gd name="textAreaBottom" fmla="*/ 293400 h 304920"/>
                </a:gdLst>
                <a:ahLst/>
                <a:rect l="textAreaLeft" t="textAreaTop" r="textAreaRight" b="textAreaBottom"/>
                <a:pathLst>
                  <a:path w="21600" h="27669">
                    <a:moveTo>
                      <a:pt x="3600" y="0"/>
                    </a:moveTo>
                    <a:arcTo wR="3600" hR="3600" stAng="16200000" swAng="-5400000"/>
                    <a:lnTo>
                      <a:pt x="0" y="24069"/>
                    </a:lnTo>
                    <a:arcTo wR="3600" hR="3600" stAng="10800000" swAng="-5400000"/>
                    <a:lnTo>
                      <a:pt x="18000" y="2766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 flipV="1">
              <a:off x="4591080" y="2619000"/>
              <a:ext cx="0" cy="7239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75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525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4025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4525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25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57200" y="182880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range and the first and third quartiles for the data s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360" y="115740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1A: Finding Measures of Var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7240" y="2951280"/>
            <a:ext cx="70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. 15, 83, 75, 12, 19, 74, 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31920" y="3594240"/>
            <a:ext cx="42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2  15  19  21  74  75  8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742000" y="3578400"/>
            <a:ext cx="293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Verdana"/>
              </a:rPr>
              <a:t>Order the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12920" y="4245120"/>
            <a:ext cx="37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ange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83 – 12 = 7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85920" y="4960800"/>
            <a:ext cx="384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rst quartile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60360" y="5645160"/>
            <a:ext cx="384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quartile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52440" y="3591000"/>
            <a:ext cx="1737000" cy="457200"/>
          </a:xfrm>
          <a:prstGeom prst="roundRect">
            <a:avLst>
              <a:gd name="adj" fmla="val 50000"/>
            </a:avLst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62280" y="3591000"/>
            <a:ext cx="1736640" cy="457200"/>
          </a:xfrm>
          <a:prstGeom prst="roundRect">
            <a:avLst>
              <a:gd name="adj" fmla="val 50000"/>
            </a:avLst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09800" y="3611520"/>
            <a:ext cx="461880" cy="417600"/>
          </a:xfrm>
          <a:prstGeom prst="roundRect">
            <a:avLst>
              <a:gd name="adj" fmla="val 38403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16400" y="3610080"/>
            <a:ext cx="461880" cy="417240"/>
          </a:xfrm>
          <a:prstGeom prst="roundRect">
            <a:avLst>
              <a:gd name="adj" fmla="val 38403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182880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range and the first and third quartiles for the data s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360" y="115740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1B: Finding Measures of Var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7240" y="2951280"/>
            <a:ext cx="70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. 75, 61, 88, 79, 79, 99, 63, 7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31920" y="3594240"/>
            <a:ext cx="42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1 63 75 77 79 79 88 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12920" y="4245120"/>
            <a:ext cx="37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ange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99 – 61 = 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327320" y="4710240"/>
            <a:ext cx="5903640" cy="825480"/>
            <a:chOff x="1327320" y="4710240"/>
            <a:chExt cx="5903640" cy="825480"/>
          </a:xfrm>
        </p:grpSpPr>
        <p:sp>
          <p:nvSpPr>
            <p:cNvPr id="122" name=""/>
            <p:cNvSpPr/>
            <p:nvPr/>
          </p:nvSpPr>
          <p:spPr>
            <a:xfrm>
              <a:off x="1327320" y="4884840"/>
              <a:ext cx="590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rst quartile: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          = 6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473280" y="4710240"/>
              <a:ext cx="2102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63 + 7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46600" y="5137200"/>
              <a:ext cx="1233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268280" y="5522760"/>
            <a:ext cx="6048360" cy="825480"/>
            <a:chOff x="1268280" y="5522760"/>
            <a:chExt cx="6048360" cy="825480"/>
          </a:xfrm>
        </p:grpSpPr>
        <p:sp>
          <p:nvSpPr>
            <p:cNvPr id="126" name=""/>
            <p:cNvSpPr/>
            <p:nvPr/>
          </p:nvSpPr>
          <p:spPr>
            <a:xfrm>
              <a:off x="1268280" y="5715000"/>
              <a:ext cx="604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hird quartile: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          = 83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673440" y="5522760"/>
              <a:ext cx="1623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79 + 8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60640" y="5964120"/>
              <a:ext cx="12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1252440" y="3591000"/>
            <a:ext cx="2027160" cy="457200"/>
          </a:xfrm>
          <a:prstGeom prst="roundRect">
            <a:avLst>
              <a:gd name="adj" fmla="val 50000"/>
            </a:avLst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81400" y="3591000"/>
            <a:ext cx="2117520" cy="457200"/>
          </a:xfrm>
          <a:prstGeom prst="roundRect">
            <a:avLst>
              <a:gd name="adj" fmla="val 50000"/>
            </a:avLst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55720" y="3611520"/>
            <a:ext cx="1031760" cy="417600"/>
          </a:xfrm>
          <a:prstGeom prst="roundRect">
            <a:avLst>
              <a:gd name="adj" fmla="val 5000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27440" y="3610080"/>
            <a:ext cx="1031760" cy="417240"/>
          </a:xfrm>
          <a:prstGeom prst="roundRect">
            <a:avLst>
              <a:gd name="adj" fmla="val 5000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42000" y="3578400"/>
            <a:ext cx="293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Verdana"/>
              </a:rPr>
              <a:t>Order the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8:20:28Z</dcterms:created>
  <dc:creator>HRW</dc:creator>
  <dc:description/>
  <dc:language>en-US</dc:language>
  <cp:lastModifiedBy>CSmith</cp:lastModifiedBy>
  <dcterms:modified xsi:type="dcterms:W3CDTF">2011-01-25T18:30:04Z</dcterms:modified>
  <cp:revision>35</cp:revision>
  <dc:subject/>
  <dc:title>Slide 1</dc:title>
</cp:coreProperties>
</file>